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2E56-EA51-4AFC-915B-7A87CA5BB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AEC7-5A9E-4DD5-9D5F-EB4F0991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BDBA-6CA0-4EA4-A098-5930697C7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D039-0E2B-4154-A4C1-23D0558FF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F0DD-4B06-4204-A8F1-3EBBA0D7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63BF-BFB5-488C-858F-B8DE9E65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D905-269C-4AD1-9BC1-F2D091DC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2B06-D0B2-47F1-B426-CD279AC4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82AE-AA6B-433B-9D38-56B8A234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10F3-AFE1-4CA7-B69E-75FD8F6F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35BA-B1BD-4825-93F4-EC12770F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F820-BDE7-493F-A68F-32E7AC75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B209-CC2A-4A39-9817-52BD76BE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3E35-E9C2-48A6-97BD-32EEAAC6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7445-0893-4FD7-9B6D-A257E699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D1E0-58D9-4219-8D97-273B91A37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4B84-4592-49CB-A9B0-FACBA5584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A4F60-F0A7-43B7-B252-A693D4E53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C69A8-F05E-4240-BEBF-D5ABF2DB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58548-B87C-42EF-BBA0-08F7B778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A26B2-BB68-45A5-B77F-5F4705EA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EF047-8256-47CB-9549-B1F02CC7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5B7F-E67E-470A-875A-F61FE6C3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5D2EE-93FF-444F-BBC0-B44EFE19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A5643-F97E-46CA-A93C-0D058C9A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9DBDF-9478-424D-BD99-401BC9E4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2C899-EE22-4810-B362-DC1E6367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0F73E-4512-4AD2-818F-6CB10E91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D8D02-06AC-4F57-B4A2-D2C6C0A87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EA8BA-FDF1-457A-9661-FC43D5A8B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CD59F-D1F0-43BB-B288-917FB5EE3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CF99E-45EB-4525-966E-5F1CF021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9EB21-35ED-47FE-BEC4-DC1A0A33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7C40-5615-4811-AB75-7DB0F5B7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9E7FD-41FA-4D8B-B5D6-526FB230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96916-CBAF-4D38-A32E-74D7747B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5A670-1D89-4352-9A6E-93DD6EDC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EA28B-312A-4638-8C3B-9F78DF81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83772-E37F-469B-A98C-DD78076B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ABE02-3529-4499-9CB8-A5A70037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759BB-263D-4A7F-B67C-84A17E97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AD4C5-2400-4252-8DAE-1215FF87D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2C5CA-889B-48AE-AA46-EB1089A5F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A602-37B6-4D2C-833C-FAF256B6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1F06-3DD9-4C84-9E2D-01AB1417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D00A-EE15-4259-8E0A-A5D47996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0E3A-2AE2-4F59-B509-115F46C4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7C8F-C906-4F28-A249-A027F795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5AE3-41A2-47B6-AF16-C5367385D41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E42B-F5D1-4250-8540-7D05084DC54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484C-51B1-4801-8828-E3197EC8E78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3F57-174D-41D9-885E-E641E7B9052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835200"/>
            <a:ext cx="7864200" cy="1901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819520"/>
            <a:ext cx="78548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DB - Week 1 Lab1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Introduction to Databases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ina A. Sai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asaid@ucalgary.ca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por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 information in the table in easy-read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hing like pivot tables in Exc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13A0-1C66-4300-B6F3-50144D475AD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Content Placeholder 6" descr="1.jpg"/>
          <p:cNvPicPr/>
          <p:nvPr/>
        </p:nvPicPr>
        <p:blipFill>
          <a:blip r:embed="rId1"/>
          <a:stretch/>
        </p:blipFill>
        <p:spPr>
          <a:xfrm>
            <a:off x="685800" y="990720"/>
            <a:ext cx="7772400" cy="5029200"/>
          </a:xfrm>
          <a:prstGeom prst="rect">
            <a:avLst/>
          </a:prstGeom>
          <a:ln w="0">
            <a:noFill/>
          </a:ln>
        </p:spPr>
      </p:pic>
      <p:sp>
        <p:nvSpPr>
          <p:cNvPr id="25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91AA-7A48-4195-B256-84315D39FD3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ddress Boo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8" name="Content Placeholder 6" descr="2.bmp"/>
          <p:cNvPicPr/>
          <p:nvPr/>
        </p:nvPicPr>
        <p:blipFill>
          <a:blip r:embed="rId1"/>
          <a:stretch/>
        </p:blipFill>
        <p:spPr>
          <a:xfrm>
            <a:off x="533520" y="1828800"/>
            <a:ext cx="7100640" cy="3657600"/>
          </a:xfrm>
          <a:prstGeom prst="rect">
            <a:avLst/>
          </a:prstGeom>
          <a:ln w="0">
            <a:noFill/>
          </a:ln>
        </p:spPr>
      </p:pic>
      <p:sp>
        <p:nvSpPr>
          <p:cNvPr id="25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19B1-5032-4B9D-921F-0CBE75324EC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7"/>
          <p:cNvSpPr/>
          <p:nvPr/>
        </p:nvSpPr>
        <p:spPr>
          <a:xfrm>
            <a:off x="609480" y="5791320"/>
            <a:ext cx="77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Book (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ID:key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, Lastname, Email, Birthda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Content Placeholder 6" descr="3.bmp"/>
          <p:cNvPicPr/>
          <p:nvPr/>
        </p:nvPicPr>
        <p:blipFill>
          <a:blip r:embed="rId1"/>
          <a:stretch/>
        </p:blipFill>
        <p:spPr>
          <a:xfrm>
            <a:off x="380880" y="762120"/>
            <a:ext cx="8763120" cy="5638680"/>
          </a:xfrm>
          <a:prstGeom prst="rect">
            <a:avLst/>
          </a:prstGeom>
          <a:ln w="0">
            <a:noFill/>
          </a:ln>
        </p:spPr>
      </p:pic>
      <p:sp>
        <p:nvSpPr>
          <p:cNvPr id="26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BBA4-10A6-4B27-8358-DD1CA0F49FF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y are Spreadsheets not sufficient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286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Data with up to hundred thousands reco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 to edit a specific recor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 to search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 to understand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93D4-92AE-4DD0-BF2E-0E613AE0857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age probl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city:  string of how many character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ject to typing Erro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Calgary, Calagary 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bout thi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8D97-81C1-4582-B3D1-1E1E4907B9D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DABB-A3CD-4EBD-BBBA-E92CAEC22C4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172200" y="1371600"/>
          <a:ext cx="2133720" cy="3664080"/>
        </p:xfrm>
        <a:graphic>
          <a:graphicData uri="http://schemas.openxmlformats.org/drawingml/2006/table">
            <a:tbl>
              <a:tblPr/>
              <a:tblGrid>
                <a:gridCol w="533520"/>
                <a:gridCol w="1600200"/>
              </a:tblGrid>
              <a:tr h="558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 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g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ta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n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ro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terlo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mi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mo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533520" y="1219320"/>
          <a:ext cx="5041800" cy="4714920"/>
        </p:xfrm>
        <a:graphic>
          <a:graphicData uri="http://schemas.openxmlformats.org/drawingml/2006/table">
            <a:tbl>
              <a:tblPr/>
              <a:tblGrid>
                <a:gridCol w="1977840"/>
                <a:gridCol w="1532160"/>
                <a:gridCol w="1531800"/>
              </a:tblGrid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ployee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hn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la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ll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hley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nsia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.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na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ra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din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m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ole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orge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hn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ra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12" name="Straight Arrow Connector 9"/>
          <p:cNvCxnSpPr/>
          <p:nvPr/>
        </p:nvCxnSpPr>
        <p:spPr>
          <a:xfrm flipV="1">
            <a:off x="5562360" y="2208960"/>
            <a:ext cx="610200" cy="3819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13" name="TextBox 10"/>
          <p:cNvSpPr/>
          <p:nvPr/>
        </p:nvSpPr>
        <p:spPr>
          <a:xfrm>
            <a:off x="1902240" y="601992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1"/>
          <p:cNvSpPr/>
          <p:nvPr/>
        </p:nvSpPr>
        <p:spPr>
          <a:xfrm>
            <a:off x="6927480" y="533412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cross referencing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ead of using a string of 20 characters (city) in hundred of thousands of  records (Employees), I used only 2 characters (City ID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t storage spa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gives more speed in searching as wel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not allow typing err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ties can be usually provided using combo bo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the way used when you fill your profile while making new email or new account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remember how to implement this in Excel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3D90-0ED5-47A7-92A0-626DBB9D37F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ink!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I want to make another table for Employee’s salary, what is the best reference to Employee tabl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, name, phone, address, city, or count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2567-2555-4A0B-ADEA-E161DB917EB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ab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DC2D-0C91-4414-8170-E99C70B81F4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743200" y="1676520"/>
          <a:ext cx="4876920" cy="4714920"/>
        </p:xfrm>
        <a:graphic>
          <a:graphicData uri="http://schemas.openxmlformats.org/drawingml/2006/table">
            <a:tbl>
              <a:tblPr/>
              <a:tblGrid>
                <a:gridCol w="1913040"/>
                <a:gridCol w="1482480"/>
                <a:gridCol w="1481400"/>
              </a:tblGrid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ployee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hn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la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ll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hley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nsia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.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na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ra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din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m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ole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orge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hn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ra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29" name="Straight Arrow Connector 9"/>
          <p:cNvCxnSpPr/>
          <p:nvPr/>
        </p:nvCxnSpPr>
        <p:spPr>
          <a:xfrm flipV="1">
            <a:off x="1980000" y="2971440"/>
            <a:ext cx="762840" cy="8388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0" name="Straight Arrow Connector 11"/>
          <p:cNvCxnSpPr/>
          <p:nvPr/>
        </p:nvCxnSpPr>
        <p:spPr>
          <a:xfrm>
            <a:off x="1905120" y="3809520"/>
            <a:ext cx="838800" cy="839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31" name="TextBox 12"/>
          <p:cNvSpPr/>
          <p:nvPr/>
        </p:nvSpPr>
        <p:spPr>
          <a:xfrm>
            <a:off x="540720" y="373392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Straight Arrow Connector 14"/>
          <p:cNvCxnSpPr/>
          <p:nvPr/>
        </p:nvCxnSpPr>
        <p:spPr>
          <a:xfrm flipH="1">
            <a:off x="3733560" y="1294200"/>
            <a:ext cx="381600" cy="3056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3" name="Straight Arrow Connector 16"/>
          <p:cNvCxnSpPr/>
          <p:nvPr/>
        </p:nvCxnSpPr>
        <p:spPr>
          <a:xfrm>
            <a:off x="4114440" y="1294920"/>
            <a:ext cx="1067400" cy="3056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4" name="Straight Arrow Connector 20"/>
          <p:cNvCxnSpPr/>
          <p:nvPr/>
        </p:nvCxnSpPr>
        <p:spPr>
          <a:xfrm>
            <a:off x="4114800" y="1294920"/>
            <a:ext cx="2363040" cy="3056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35" name="TextBox 21"/>
          <p:cNvSpPr/>
          <p:nvPr/>
        </p:nvSpPr>
        <p:spPr>
          <a:xfrm>
            <a:off x="3967920" y="8380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Straight Arrow Connector 23"/>
          <p:cNvCxnSpPr/>
          <p:nvPr/>
        </p:nvCxnSpPr>
        <p:spPr>
          <a:xfrm flipH="1">
            <a:off x="2970000" y="1068120"/>
            <a:ext cx="3600" cy="6102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37" name="TextBox 24"/>
          <p:cNvSpPr/>
          <p:nvPr/>
        </p:nvSpPr>
        <p:spPr>
          <a:xfrm>
            <a:off x="2445480" y="8380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Que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 for information about the dat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all employees living in Calgar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all employees with salary &gt; 5000$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F79B-84B5-4FB0-B2B5-0925E765ADF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or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editing information in tables easi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The form that appears to you when you want to edit your profile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2F3C-35B5-4E46-A59F-DE62399FB5C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5:23:28Z</dcterms:created>
  <dc:creator>Dina</dc:creator>
  <dc:description/>
  <dc:language>en-US</dc:language>
  <cp:lastModifiedBy>Dina</cp:lastModifiedBy>
  <dcterms:modified xsi:type="dcterms:W3CDTF">2009-02-09T15:27:12Z</dcterms:modified>
  <cp:revision>136</cp:revision>
  <dc:subject/>
  <dc:title>CPSC 203</dc:title>
</cp:coreProperties>
</file>